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02E7-F2B4-463F-8588-D1A2D367E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5D6A-34C4-4E14-8B88-D03F706B162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DF1B-744C-409C-BFE6-91CA8303BC3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19FB-3903-40F6-A924-8FF665E1A54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EA0F-8743-49D8-8D22-3D88C38F54D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D12D-7670-41F0-A094-A81BC3B9B6D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2634-C80E-4C62-9F53-F243BA6A886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4625-9BAB-4C2D-9791-01BDC7FD546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BF8F-E38B-4D0D-B12E-1B03113CBC8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79DE-4DCE-40CD-A9F1-EC44C256560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A409-45AE-4E64-8577-BE1EFE81F84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332E-AFC5-4A2F-9EB8-6FF03540392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ACCF-D2AF-4191-8C42-FD843127F6F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A9F5D-3A76-4382-B107-0A6FCAB8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D766B-C98F-4803-B287-3142AF7D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E5D52-36A3-4E6F-B4C4-E7B481DF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F45AA-64AA-4EE6-A667-F2C255494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0C8E-FCC8-456B-8D1C-0ACFA64F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EF78-FC6D-49F9-8A73-91C67E19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F282-8682-4FFD-AE83-317BF631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BE49-003C-4A93-80A3-77ED5B2D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FDD4-609D-4FC7-8F35-BE71C273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B3AC-836A-42D3-9891-3C9623F1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62A3-5873-4E09-AF02-D7A5B007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87DE4-51DB-4EE1-9A60-232614A0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6B1C-EF7D-4115-B79E-F31DE4C2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3DE8-CACA-4A2D-8576-0F40F4C6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DB7A-3E1E-44CB-B20C-C84D60AD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FEF7-3440-4BCF-B27C-9D4063842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C75A-F58F-488F-AE3D-0B6710310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F37E1-CEE7-434E-BFA5-3CDB814F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03FF4-DC2E-4C9E-B463-3FB49F2D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4008D-1A2A-4A62-B38D-82FC4EAB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872FA-A6A7-49F7-84C0-ACA7069D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6C924-BC17-46EB-8EE7-98120898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3E715-4EA5-49A0-8590-79B39C8E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1EEC0-F54B-48B8-A47D-BD618439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2826-C33B-4E88-A70C-13FB107C52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72B6-C632-4CFB-B04A-1E69C97C1B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geology.com/county-map/ohio.shtml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geology.com/county-map/indiana.shtml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eology.com/county-map/pennsylvania.s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eology.com/state-map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Dialect Map</a:t>
            </a: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049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nnsylvania Dutch Reg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4" descr="clickable USA map"/>
          <p:cNvPicPr/>
          <p:nvPr/>
        </p:nvPicPr>
        <p:blipFill>
          <a:blip r:embed="rId1"/>
          <a:stretch/>
        </p:blipFill>
        <p:spPr>
          <a:xfrm>
            <a:off x="3505320" y="2971800"/>
            <a:ext cx="52387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ng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ennsylvania Dutc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by Ron Eck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ung by Twila Pow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5" descr="chester_Small"/>
          <p:cNvPicPr/>
          <p:nvPr/>
        </p:nvPicPr>
        <p:blipFill>
          <a:blip r:embed="rId1"/>
          <a:stretch/>
        </p:blipFill>
        <p:spPr>
          <a:xfrm>
            <a:off x="2590920" y="304812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lidesho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duced b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nimo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ww.animoto.c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1905120" y="3124080"/>
            <a:ext cx="56689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ibliograph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imoto productions. (2009). Retrieved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une 17, 2009, from http://animoto.com/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cker, R. (2007). Pennsylvania Dutch. Retrieved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une 17, 2009, from http://www.ronaldeck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/dutch.htm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ce, G. Amish photography. (n.d). Retrieved on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une 17, 2009, from http://www.afterim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allery.com/ticeamish.htm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rominently Spoken in Regions of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ortheast Ohi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l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joi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un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4" descr="rule"/>
          <p:cNvPicPr/>
          <p:nvPr/>
        </p:nvPicPr>
        <p:blipFill>
          <a:blip r:embed="rId1"/>
          <a:stretch/>
        </p:blipFill>
        <p:spPr>
          <a:xfrm>
            <a:off x="1155600" y="160344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Ohio county map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24080" y="1309680"/>
            <a:ext cx="5562720" cy="5548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rule"/>
          <p:cNvPicPr/>
          <p:nvPr/>
        </p:nvPicPr>
        <p:blipFill>
          <a:blip r:embed="rId4"/>
          <a:stretch/>
        </p:blipFill>
        <p:spPr>
          <a:xfrm>
            <a:off x="155520" y="46080"/>
            <a:ext cx="9720" cy="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rominently Spoken in Regions of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ortheast Indian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khar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Surround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nti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9" descr="rule"/>
          <p:cNvPicPr/>
          <p:nvPr/>
        </p:nvPicPr>
        <p:blipFill>
          <a:blip r:embed="rId1"/>
          <a:stretch/>
        </p:blipFill>
        <p:spPr>
          <a:xfrm>
            <a:off x="1155600" y="160344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Indiana county map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29200" y="1371600"/>
            <a:ext cx="363852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rominently Spoken in Regions of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ncaster County in Eastern Pennsylvan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6" descr="Pennsylvania county m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2438280"/>
            <a:ext cx="71434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hysical Features of the Amish Countr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rtheastern Ohi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lains, Mountains, Lakes, Stre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rtheastern India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lls, Lakes, Stre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tern Pennsylvan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untains, Cliffs, Valleys, Streams, Rapids, Lakes, Islan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ibliograph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 map collections. (n.d.). Retrieved June 16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009, from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geology.com/state-map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 HomeTownLocator. (n.d.). Retrieved Jun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6, 2009, from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www.hometownlocator.com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etting Description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lideshow of Photographs from Lancaster County, Pennsylvan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hotographs by George Ti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pictures were taken from the book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ields of Peace: A Pennsylvania German Albu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cription of Photograph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ve Mennonite children on a bicycle, 196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o Amish girls, 1966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mish boy, 196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mish boy walking fence, 1966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rn and covered bridge, 196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ggy and farmhouse with windmill, 196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ther and daughter in buggy, 196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rse and buggy in farmyard, 196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rse and buggy, 196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ld Amish men, 1966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7T01:01:41Z</dcterms:created>
  <dc:creator>Mooreland Heights Elementary School </dc:creator>
  <dc:description/>
  <dc:language>en-US</dc:language>
  <cp:lastModifiedBy>MComer</cp:lastModifiedBy>
  <dcterms:modified xsi:type="dcterms:W3CDTF">2011-06-21T16:10:45Z</dcterms:modified>
  <cp:revision>6</cp:revision>
  <dc:subject/>
  <dc:title>Dialect Map </dc:title>
</cp:coreProperties>
</file>